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BA0-33D8-4CEA-AC38-100D786B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D78-A3B3-49F3-9480-70999392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4FD-295E-4B89-BF9B-52066A5E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32B-F38C-47AD-8CA1-F05BC811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DA2-3F87-4D24-9727-48CC5326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1FF-7950-4D2E-B419-1410CD90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BFE-DFD8-4344-A0A8-4A6E848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395-02A7-4D8B-B35A-3E979938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8FB-28DD-45FB-9755-F81D43E1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132-21B7-4544-91CD-286BDB5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DD2-FE63-4466-BD27-96F3D3FF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E1B-E287-4F06-842B-B30B3AF8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9CEE-B504-497A-B7B0-CFECD126C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221" t="27778" r="61030" b="19444"/>
          <a:stretch/>
        </p:blipFill>
        <p:spPr>
          <a:xfrm>
            <a:off x="5638680" y="1981080"/>
            <a:ext cx="3260880" cy="3749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160020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a program that allows you to view all running programs and allows you to shut down a program that is not responding or froz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[CTRL + ALT + DEL] to access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7"/>
          <p:cNvSpPr/>
          <p:nvPr/>
        </p:nvSpPr>
        <p:spPr>
          <a:xfrm>
            <a:off x="457200" y="4952880"/>
            <a:ext cx="44197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152"/>
                </a:solidFill>
                <a:latin typeface="Calibri"/>
              </a:rPr>
              <a:t>When PowerPoint froze, she used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 manag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03152"/>
                </a:solidFill>
                <a:latin typeface="Calibri"/>
              </a:rPr>
              <a:t>to close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8" descr=""/>
          <p:cNvPicPr/>
          <p:nvPr/>
        </p:nvPicPr>
        <p:blipFill>
          <a:blip r:embed="rId2"/>
          <a:stretch/>
        </p:blipFill>
        <p:spPr>
          <a:xfrm>
            <a:off x="414360" y="-36360"/>
            <a:ext cx="80470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20:07:29Z</dcterms:created>
  <dc:creator>Administrator</dc:creator>
  <dc:description/>
  <dc:language>en-US</dc:language>
  <cp:lastModifiedBy>Administrator</cp:lastModifiedBy>
  <dcterms:modified xsi:type="dcterms:W3CDTF">2009-03-13T20:18:49Z</dcterms:modified>
  <cp:revision>2</cp:revision>
  <dc:subject/>
  <dc:title>Slide 1</dc:title>
</cp:coreProperties>
</file>